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F247-055E-4434-A8D6-588428874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43080" y="685800"/>
            <a:ext cx="257184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7F77-2E1E-459A-BBEA-FDD46B416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79564-559A-41BC-BA63-9F30DF67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58DD1-9C21-40BE-8D9B-27DA4046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429C8-3CC5-4496-B5E4-F47B2C5D8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26E97-5621-4ECA-B26C-EF12ADA28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30A6D-2D4E-422C-8E5C-3E18E6F2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AF01-4565-46FF-8798-DCFE5202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F4662-6E7C-4329-AB61-67C0D7D92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D9E96-8FC6-4DDB-854A-7106D1D9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F10E-F855-4CAE-88A1-588DA653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3589-CA04-4110-8D80-8A4EBEE16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AF52-86FF-4E50-B2BB-A2B90951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9609-3635-46E9-AE03-F84625831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02A4-46DC-4098-B0C0-AF417CD2F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304920" y="685800"/>
            <a:ext cx="6275160" cy="79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ll Ringer: Why would such a system be good for a stable government and socie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1"/>
          <p:cNvSpPr/>
          <p:nvPr/>
        </p:nvSpPr>
        <p:spPr>
          <a:xfrm>
            <a:off x="179280" y="225360"/>
            <a:ext cx="640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induism Notes</a:t>
            </a:r>
            <a:endParaRPr b="0" lang="en-US" sz="1400" spc="-1" strike="noStrike">
              <a:solidFill>
                <a:srgbClr val="000000"/>
              </a:solidFill>
              <a:latin typeface="Times New Roman"/>
            </a:endParaRPr>
          </a:p>
        </p:txBody>
      </p:sp>
      <p:graphicFrame>
        <p:nvGraphicFramePr>
          <p:cNvPr id="50" name=""/>
          <p:cNvGraphicFramePr/>
          <p:nvPr/>
        </p:nvGraphicFramePr>
        <p:xfrm>
          <a:off x="465120" y="1600200"/>
          <a:ext cx="5829480" cy="1135080"/>
        </p:xfrm>
        <a:graphic>
          <a:graphicData uri="http://schemas.openxmlformats.org/drawingml/2006/table">
            <a:tbl>
              <a:tblPr/>
              <a:tblGrid>
                <a:gridCol w="5829480"/>
              </a:tblGrid>
              <a:tr h="1135080">
                <a:tc>
                  <a:txBody>
                    <a:bodyPr lIns="56520" rIns="56520" tIns="56880" bIns="56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22222"/>
                          </a:solidFill>
                          <a:latin typeface="Helvetica Neue"/>
                        </a:rPr>
                        <a:t>Where did Hinduism originate? Where is it practiced in the world toda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22222"/>
                          </a:solidFill>
                          <a:latin typeface="Helvetica Neue"/>
                        </a:rPr>
                        <a:t>Why has it not spread furthe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56520" marR="5652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1" name="Rectangle 20"/>
          <p:cNvSpPr/>
          <p:nvPr/>
        </p:nvSpPr>
        <p:spPr>
          <a:xfrm>
            <a:off x="514440" y="5075640"/>
            <a:ext cx="6262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449280" y="2895480"/>
          <a:ext cx="5862600" cy="2438640"/>
        </p:xfrm>
        <a:graphic>
          <a:graphicData uri="http://schemas.openxmlformats.org/drawingml/2006/table">
            <a:tbl>
              <a:tblPr/>
              <a:tblGrid>
                <a:gridCol w="1481040"/>
                <a:gridCol w="1538280"/>
                <a:gridCol w="265320"/>
                <a:gridCol w="2577960"/>
              </a:tblGrid>
              <a:tr h="408240">
                <a:tc>
                  <a:txBody>
                    <a:bodyPr lIns="66600" rIns="666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Word</a:t>
                      </a:r>
                      <a:endParaRPr b="0" lang="en-US" sz="18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c gridSpan="3">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olytheism</a:t>
                      </a:r>
                      <a:endParaRPr b="0" lang="en-US" sz="18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Prefix and Root</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Poly </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theism</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r>
              <a:tr h="48096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Meaning of Prefix and Root</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a:txBody>
                    <a:bodyPr lIns="66600" rIns="66600" tIns="66600" bIns="66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elvetica Neue"/>
                        </a:rPr>
                        <a:t>“</a:t>
                      </a:r>
                      <a:r>
                        <a:rPr b="0" lang="en-US" sz="1000" spc="-1" strike="noStrike">
                          <a:solidFill>
                            <a:srgbClr val="000000"/>
                          </a:solidFill>
                          <a:latin typeface="Helvetica Neue"/>
                        </a:rPr>
                        <a:t>having to do with god”</a:t>
                      </a:r>
                      <a:endParaRPr b="0" lang="en-US" sz="10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r>
              <a:tr h="4222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Meaning of Word</a:t>
                      </a: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14680">
                <a:tc>
                  <a:txBody>
                    <a:bodyPr lIns="66600" rIns="66600" tIns="66600" bIns="66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elvetica Neue"/>
                        </a:rPr>
                        <a:t>Identify 3 Major Gods of the Hindus (trimur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66600" marR="666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66600" rIns="66600" tIns="66600" bIns="66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6600" marR="666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 name="TextBox 20"/>
          <p:cNvSpPr/>
          <p:nvPr/>
        </p:nvSpPr>
        <p:spPr>
          <a:xfrm>
            <a:off x="457200" y="5410080"/>
            <a:ext cx="57150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ly Book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en was the Rig Veda wri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2. Before the Rig Veda was written down, how were the stories in it passed from generation to gener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3. As a source, why might a historian question the reliability of the Rig Veda as a historical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4. The Rig Veda, Mahabharata, Bhagavata Gita and sacred texts from many other belief systems tell stories about gods and their interactions with each other and humans. What do you think the purpose of these types of stories a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13:13:26Z</dcterms:created>
  <dc:creator>Anne Jean Lyons</dc:creator>
  <dc:description/>
  <dc:language>en-US</dc:language>
  <cp:lastModifiedBy>Windows User</cp:lastModifiedBy>
  <dcterms:modified xsi:type="dcterms:W3CDTF">2016-10-11T11:01:50Z</dcterms:modified>
  <cp:revision>45</cp:revision>
  <dc:subject/>
  <dc:title>PowerPoint Presentation</dc:title>
</cp:coreProperties>
</file>